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2045-6940-4550-A5D0-40B00FB1E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C889-2ACE-4AE7-8865-ECAC104E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BBB2-B511-4E8A-8F8C-398ECC46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C9ED-A155-43A9-8D06-4F259D44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AF91-C0DE-4737-B8E0-CB020D92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32E0-57D1-4413-BEDD-C5607B92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B476-C544-4515-9D32-26C7A599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C5A3-86F0-4122-B2FB-3297BF63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6F32-1BD5-4E56-8AC9-CFB22197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C684-34E6-49B1-A232-B259166A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6769-92A5-471E-BDE2-D81C94D8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451F-D4C6-4BC5-90D4-CF3A66D0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5741-E53A-409B-804B-F095D2C8E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924680" y="304920"/>
          <a:ext cx="86688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304920"/>
                    <a:ext cx="86688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91968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taenzer2" descr=""/>
          <p:cNvPicPr/>
          <p:nvPr/>
        </p:nvPicPr>
        <p:blipFill>
          <a:blip r:embed="rId3"/>
          <a:stretch/>
        </p:blipFill>
        <p:spPr>
          <a:xfrm>
            <a:off x="457200" y="1143000"/>
            <a:ext cx="2098800" cy="3613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38080" y="3049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OP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990720"/>
            <a:ext cx="259056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r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stres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mmunikat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s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kompliz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z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tivieren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54100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„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Kleine Bewegungspause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4800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924680" y="304920"/>
          <a:ext cx="86688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304920"/>
                    <a:ext cx="86688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taenzer2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846000" cy="1457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" y="2057400"/>
            <a:ext cx="746748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e kennen alle die Situation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 Seminar beginnen die ersten, zu gähnen und nach frisch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Luft zu japsen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im Kongress fühlen sich die Köpfe voll und schwer an, nich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geht mehr hinein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- in der Firma gucken die Kollegen aus dem Fester, rauche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werden gereizt, klagen über Nackenschmerzen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5562720"/>
            <a:ext cx="84582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... jetzt ist Zeit für e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„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leine Bewegungspause!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7924680" y="304920"/>
          <a:ext cx="787680" cy="14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304920"/>
                    <a:ext cx="787680" cy="14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609480" y="1989000"/>
            <a:ext cx="792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ine kurze Bewegungspause sei es von 1-2 Minuten am Arbeitsplatz oder für zehn Minuten in der Pause anstelle der Zigarette und dem Kaffe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3141720"/>
            <a:ext cx="4267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ktiviert den Kreislau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ässt den Stress abglei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urchblutet die Muskulatur ne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öffnet den Kop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taenzer2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846000" cy="1457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5800" y="5013360"/>
            <a:ext cx="7086600" cy="13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... danach gehen die Aktivitäten viel leichter weiter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htung!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: Fünf mal 10 Minuten in der Woche ist fast soviel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wie eine Gymnastik/Sportstu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11280" y="1773360"/>
            <a:ext cx="81388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e Bewegungspause gemeinsam durchgeführt, heißt auch eine kommunikative Begegnung schaffen, die die soziale Atmosphäre entspannt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i der Gestaltung der Bewegungspause ist jedoch zu beach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taenzer2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46000" cy="145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7924680" y="304920"/>
          <a:ext cx="787680" cy="140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24680" y="304920"/>
                    <a:ext cx="787680" cy="14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533520" y="320040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omplizierte Organis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37339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lar begrenzter Rahmen und zeitliche Festleg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42670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omplizierte Übungen, die von jedem nach vollzogen werd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kön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510552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bau der Hemmungen, sich voreinander zu bewe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563868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infache Anregungen für die Teilnehmer/-innen für den Allta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95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8500"/>
                            </p:stCondLst>
                            <p:childTnLst>
                              <p:par>
                                <p:cTn id="58" nodeType="after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taenzer2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46000" cy="145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7924680" y="304920"/>
          <a:ext cx="787680" cy="140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24680" y="304920"/>
                    <a:ext cx="787680" cy="14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609480" y="2060640"/>
            <a:ext cx="792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Haben Sie Lust, die „Kleine Bewegungspause“ einzuführen, bieten wir Ihnen Hilfestellung bei der Gestaltung in einem 3-stündigen work-shop.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314172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e „Kleine Bewegungspause“ – Bedeutung und Verwendung im All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3716280"/>
            <a:ext cx="74678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Übungen und Programmzusammenstell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) Kreislaufanregung und Koord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) Rücken- und Funktionsgymnast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) Körperwahrnehm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573408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pps zum Aufbau und zur Durchführung von Program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aenzer2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46000" cy="145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7924680" y="304920"/>
          <a:ext cx="787680" cy="140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24680" y="304920"/>
                    <a:ext cx="787680" cy="14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" name="taenzer2" descr=""/>
          <p:cNvPicPr/>
          <p:nvPr/>
        </p:nvPicPr>
        <p:blipFill>
          <a:blip r:embed="rId4"/>
          <a:stretch/>
        </p:blipFill>
        <p:spPr>
          <a:xfrm>
            <a:off x="3348000" y="1700280"/>
            <a:ext cx="2432160" cy="41893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905120" y="278136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itere Informationen erhalten Sie be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3429000"/>
            <a:ext cx="853416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Landessportbund Bre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„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Kleine Bewegungspause“ - JETZ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elefon 0421/79287-1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Renate Jona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der  www.lsb-bremen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0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14:09:15Z</dcterms:created>
  <dc:creator>hirsch</dc:creator>
  <dc:description/>
  <dc:language>en-US</dc:language>
  <cp:lastModifiedBy>Jonas</cp:lastModifiedBy>
  <dcterms:modified xsi:type="dcterms:W3CDTF">2003-11-11T10:28:24Z</dcterms:modified>
  <cp:revision>9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35539890</vt:r8>
  </property>
  <property fmtid="{D5CDD505-2E9C-101B-9397-08002B2CF9AE}" pid="3" name="_AuthorEmail">
    <vt:lpwstr>jonas@lsb-bremen.de</vt:lpwstr>
  </property>
  <property fmtid="{D5CDD505-2E9C-101B-9397-08002B2CF9AE}" pid="4" name="_AuthorEmailDisplayName">
    <vt:lpwstr>Renate Jonas</vt:lpwstr>
  </property>
  <property fmtid="{D5CDD505-2E9C-101B-9397-08002B2CF9AE}" pid="5" name="_EmailSubject">
    <vt:lpwstr>Bewegungspause</vt:lpwstr>
  </property>
</Properties>
</file>